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97166-66B5-4DC9-A2FA-F954527F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C17BA-C46E-4541-9E8D-E9CB51A0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0D457-C02F-4D59-96D1-008D0B00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7070E-1522-4263-BB67-F1CA3F86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DE0E4-36DF-474A-99B3-76AB5703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DAA3B-6F03-4191-A570-31CF0508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D8A5E-14C8-4542-995B-DD134426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FA38C-DD6A-474F-BF5D-69F3A166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259FC-29E9-4B77-8261-C7381390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1D29D-6E8A-4091-BD56-9B7827A4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B4FFD-1B1C-4B00-A8B0-1CD9EBDA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8DD8D-2826-4D23-B1DA-4DA74F3C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116000" y="692280"/>
            <a:ext cx="8028000" cy="60948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2627280" y="0"/>
            <a:ext cx="6553080" cy="8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5795640" y="6420960"/>
            <a:ext cx="3313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中国汽车流通协会有形汽车市场分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流通协会(无底色)"/>
          <p:cNvPicPr/>
          <p:nvPr/>
        </p:nvPicPr>
        <p:blipFill>
          <a:blip r:embed="rId3"/>
          <a:stretch/>
        </p:blipFill>
        <p:spPr>
          <a:xfrm>
            <a:off x="34920" y="0"/>
            <a:ext cx="1036800" cy="10238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7"/>
          <p:cNvSpPr/>
          <p:nvPr/>
        </p:nvSpPr>
        <p:spPr>
          <a:xfrm>
            <a:off x="0" y="1052640"/>
            <a:ext cx="9144000" cy="25056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1440"/>
            <a:ext cx="2209680" cy="313236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graphicFrame>
        <p:nvGraphicFramePr>
          <p:cNvPr id="43" name="Object 3"/>
          <p:cNvGraphicFramePr/>
          <p:nvPr/>
        </p:nvGraphicFramePr>
        <p:xfrm>
          <a:off x="2203560" y="0"/>
          <a:ext cx="6940440" cy="331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3560" y="0"/>
                    <a:ext cx="69404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Rectangle 4"/>
          <p:cNvSpPr/>
          <p:nvPr/>
        </p:nvSpPr>
        <p:spPr>
          <a:xfrm>
            <a:off x="2205000" y="3124080"/>
            <a:ext cx="6939000" cy="64800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04920" y="2514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7347d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FDD9-83A2-41F8-A388-789A1349D76A}" type="slidenum">
              <a:rPr b="0" lang="zh-CN" sz="1200" spc="-1" strike="noStrike">
                <a:solidFill>
                  <a:srgbClr val="17347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7347d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2203560" y="0"/>
          <a:ext cx="69404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3560" y="0"/>
                    <a:ext cx="69404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3"/>
          <p:cNvSpPr/>
          <p:nvPr/>
        </p:nvSpPr>
        <p:spPr>
          <a:xfrm>
            <a:off x="2205000" y="3124080"/>
            <a:ext cx="6939000" cy="64800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95280" y="3141360"/>
            <a:ext cx="6948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于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月份京城汽车市场综合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11400" y="4797360"/>
            <a:ext cx="67816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47d"/>
                </a:solidFill>
                <a:latin typeface="Verdana"/>
                <a:ea typeface="宋体"/>
              </a:rPr>
              <a:t>中国汽车流通协会有形汽车市场分会</a:t>
            </a:r>
            <a:endParaRPr b="1" lang="en-US" sz="2000" spc="-1" strike="noStrike">
              <a:solidFill>
                <a:srgbClr val="77b7e7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47d"/>
                </a:solidFill>
                <a:latin typeface="Verdana"/>
                <a:ea typeface="宋体"/>
              </a:rPr>
              <a:t>苏晖</a:t>
            </a:r>
            <a:endParaRPr b="1" lang="en-US" sz="20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1440"/>
            <a:ext cx="2209680" cy="313236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95" name="Picture 7" descr="流通协会(无底色)"/>
          <p:cNvPicPr/>
          <p:nvPr/>
        </p:nvPicPr>
        <p:blipFill>
          <a:blip r:embed="rId3"/>
          <a:stretch/>
        </p:blipFill>
        <p:spPr>
          <a:xfrm>
            <a:off x="395280" y="203040"/>
            <a:ext cx="122400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3"/>
          <p:cNvSpPr/>
          <p:nvPr/>
        </p:nvSpPr>
        <p:spPr>
          <a:xfrm>
            <a:off x="5796000" y="6421320"/>
            <a:ext cx="331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7347d"/>
                </a:solidFill>
                <a:latin typeface="Verdana"/>
                <a:ea typeface="宋体"/>
              </a:rPr>
              <a:t>中国汽车流通协会有形汽车市场分会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849240"/>
            <a:ext cx="817236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47d"/>
                </a:solidFill>
                <a:latin typeface="Verdana"/>
                <a:ea typeface="宋体"/>
              </a:rPr>
              <a:t>二、关于京城汽车市场重要舆论和信息影响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2822400"/>
            <a:ext cx="914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（三）政府部门公布京城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7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行业开征有机物排污费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为减少挥发性有机物的排放量，改善北京市空气质量，从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月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日起，挥发性有机物排污费将首先在本市行政区域内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5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大行业的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7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个行业小类征收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此次征收范围，涉及家具制造、包装印刷、石油化工、汽车制造、电子行业的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5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个行业大类中排放挥发性有机物的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7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个行业小类，比如家具制造行业的木制家具制造，包装印刷行业的书报刊印刷、包装装潢及其他印刷，汽车制造行业的汽车整车制造、改装汽车制造，电子行业的通信终端设备制造、集成电路制造、光电子器件及其他电子器件制造、印制电路板制造等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实施差别化的排污收费政策。通过挥发性有机物清洁生产评估、排放浓度低于或等于本市排放限值的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50%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，且当月未因污染环境受到环保部门处罚的，收费标准为每公斤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元。对于存在未安装废气治理设施，或废气治理设施运行不正常，或挥发性有机物超标排放等环境污染行为的，收费标准为每公斤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40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元。其他情况收费标准为每公斤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20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元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3"/>
          <p:cNvSpPr/>
          <p:nvPr/>
        </p:nvSpPr>
        <p:spPr>
          <a:xfrm>
            <a:off x="5796000" y="6421320"/>
            <a:ext cx="331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7347d"/>
                </a:solidFill>
                <a:latin typeface="Verdana"/>
                <a:ea typeface="宋体"/>
              </a:rPr>
              <a:t>中国汽车流通协会有形汽车市场分会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280" y="849240"/>
            <a:ext cx="817236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47d"/>
                </a:solidFill>
                <a:latin typeface="Verdana"/>
                <a:ea typeface="宋体"/>
              </a:rPr>
              <a:t>二、关于京城汽车市场重要舆论和信息影响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265572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（四）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2017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年实施机动车“京六”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市环保局发出未来，北京市将实施全世界最严格的机动车排放标准和油品标准，以缓解大城市机动车污染问题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机动车排放是本市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PM2.5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的主要来源之一，要改善机动车污染，渠道之一就是提供油品和排放标准。目前，北京市第六阶段机动车排放标准、油品标准（“京六”标准）相关草案已基本制定完毕，力争在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2017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年实施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按照国家标准的要求，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2017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年，包括京津冀在内的重点地区开始供应第五阶段车用燃油，并规划在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2017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年实施第五阶段机动车排放标准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2018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年起在全国范围内供应第五阶段车用燃油，这也为北京市实施更为严格的机动车排放标准创造了条件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负责人表示，在油品方面，“京六”标准的硫含量与“京五”一致，仍为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0PPM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以下。此外，汽油将进一步降低烯烃、芳烃、蒸汽压、馏程苯等指标，柴油将进一步降低多环芳烃、密度等指标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3"/>
          <p:cNvSpPr/>
          <p:nvPr/>
        </p:nvSpPr>
        <p:spPr>
          <a:xfrm>
            <a:off x="5796000" y="6421320"/>
            <a:ext cx="331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7347d"/>
                </a:solidFill>
                <a:latin typeface="Verdana"/>
                <a:ea typeface="宋体"/>
              </a:rPr>
              <a:t>中国汽车流通协会有形汽车市场分会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849240"/>
            <a:ext cx="817236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47d"/>
                </a:solidFill>
                <a:latin typeface="Verdana"/>
                <a:ea typeface="宋体"/>
              </a:rPr>
              <a:t>二、关于京城汽车市场重要舆论和信息影响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32338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宋体"/>
              </a:rPr>
              <a:t>（五）新能源车摇号北京暂不调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宋体"/>
              </a:rPr>
              <a:t>月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宋体"/>
              </a:rPr>
              <a:t>29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宋体"/>
              </a:rPr>
              <a:t>日，国务院常务会议明确提出，各地不得对新能源汽车实行限行、限购，已实行的应当取消。从北京市新能源车数量调控政策制定部门了解到，北京现阶段暂未调整新能源车指标政策，未来是否会取消限购还需要市政府有关部门进一步研究。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宋体"/>
              </a:rPr>
              <a:t>月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宋体"/>
              </a:rPr>
              <a:t>29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宋体"/>
              </a:rPr>
              <a:t>日，国务院总理李克强在国务院常务会议上提出，“确定支持新能源和小排量汽车发展措施，促进调结构扩内需”。此次会议，国务院明确指出：“各地不得对新能源汽车实行限行、限购，已实行的应当取消。”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宋体"/>
              </a:rPr>
              <a:t>2014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宋体"/>
              </a:rPr>
              <a:t>年起，本市开始实行新能源车指标配置政策，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宋体"/>
              </a:rPr>
              <a:t>2014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宋体"/>
              </a:rPr>
              <a:t>年分配指标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宋体"/>
              </a:rPr>
              <a:t>万个，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宋体"/>
              </a:rPr>
              <a:t>2015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宋体"/>
              </a:rPr>
              <a:t>年分配指标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宋体"/>
              </a:rPr>
              <a:t>万个，按照计划，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宋体"/>
              </a:rPr>
              <a:t>2016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宋体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宋体"/>
              </a:rPr>
              <a:t>2017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宋体"/>
              </a:rPr>
              <a:t>年将分别分配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宋体"/>
              </a:rPr>
              <a:t>万个，在单双号、尾号限行、重污染天气限行的政策中，北京新能源车也享受不限行的政策。　就北京是否会放开新能源车限购，相关负责人在接受媒体采访时表示，针对新能源车，北京一直是鼓励的态度，指标数量在全国是最多的。负责人认为，国务院的要求实质是希望各地鼓励新能源车的发展，至于北京是否会取消新能源车限购政策，需要政府层面研究决定。中央政策落地到地方需要根据各地实际发展需要审慎研究执行办法。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3"/>
          <p:cNvSpPr/>
          <p:nvPr/>
        </p:nvSpPr>
        <p:spPr>
          <a:xfrm>
            <a:off x="5796000" y="6421320"/>
            <a:ext cx="331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7347d"/>
                </a:solidFill>
                <a:latin typeface="Verdana"/>
                <a:ea typeface="宋体"/>
              </a:rPr>
              <a:t>中国汽车流通协会有形汽车市场分会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849240"/>
            <a:ext cx="817236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47d"/>
                </a:solidFill>
                <a:latin typeface="Verdana"/>
                <a:ea typeface="宋体"/>
              </a:rPr>
              <a:t>二、关于京城汽车市场重要舆论和信息影响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2823120"/>
            <a:ext cx="914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（六）全民倡导，绿色出行十年后终于再次高度重视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“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3510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绿色出行”是指三公里以内出行请步行，五公里以内出行请骑车，十公里以内出行请乘坐公共交通工具，十公里以上远距离出行请绿色驾驶。在绿色出行倡导月内，徒步健康类、绿色骑行类、公益车友类、绿色环保类社会组织将充分发挥各自独特作用，开展徒步健走大会、红色骑行之旅、顺风车搭乘互助、“绿灯行动”文明引导等系列绿色出行倡导活动。邀请更多市民朋友一道加入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3510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行动，打造健康生活方式，赶走雾霾，共享蓝天，顺畅交通，为美丽北京加油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是指，三公里内请步行，如果出行距离在三公里以内，又不太赶时间，步行是最好的选择，“走”为上计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5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是指，五公里以内请骑车，既省心又省力，适合距离选择自行车出行，低碳环保零排放，乐在“骑”中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是指，十公里内请坐公交车，虽然高峰时段有点挤，但成本低、很便利，公交集团推出了定制商务班车服务，时间有保障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&gt;10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，远距离出行请绿色驾驶，互助搭乘小汽车，科学使用私家车，文明驾驶，加强节能减排意识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3"/>
          <p:cNvSpPr/>
          <p:nvPr/>
        </p:nvSpPr>
        <p:spPr>
          <a:xfrm>
            <a:off x="5796000" y="6421320"/>
            <a:ext cx="331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7347d"/>
                </a:solidFill>
                <a:latin typeface="Verdana"/>
                <a:ea typeface="宋体"/>
              </a:rPr>
              <a:t>中国汽车流通协会有形汽车市场分会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849240"/>
            <a:ext cx="817236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47d"/>
                </a:solidFill>
                <a:latin typeface="Verdana"/>
                <a:ea typeface="宋体"/>
              </a:rPr>
              <a:t>二、关于京城汽车市场重要舆论和信息影响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0" y="315828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（七）北京未来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5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年在建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2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条地铁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《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北京市城市轨道交通建设规划（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2014-2020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）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》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已获得国家发改委及住建部的正式批复。未来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5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年，北京将建设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2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条地铁线，包括京津冀首条区域快线平谷线、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CBD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区域“地下专线”等。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2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条线通车后，北京轨道交通通车里程将达到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998.5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公里。根据计划，今年有望开工建设其中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8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条线路。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《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北京市城市轨道交通建设规划（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2014-2020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）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》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已获得国家发改委及住建部的正式批复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2203560" y="0"/>
          <a:ext cx="69404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3560" y="0"/>
                    <a:ext cx="69404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3"/>
          <p:cNvSpPr/>
          <p:nvPr/>
        </p:nvSpPr>
        <p:spPr>
          <a:xfrm>
            <a:off x="2205000" y="3124080"/>
            <a:ext cx="6939000" cy="64800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564000" y="4292640"/>
            <a:ext cx="4724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47d"/>
                </a:solidFill>
                <a:latin typeface="Arial"/>
                <a:ea typeface="宋体"/>
              </a:rPr>
              <a:t>中国汽车流通协会有形汽车市场分会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47d"/>
                </a:solidFill>
                <a:latin typeface="Arial"/>
                <a:ea typeface="宋体"/>
              </a:rPr>
              <a:t>2015</a:t>
            </a:r>
            <a:r>
              <a:rPr b="0" lang="zh-CN" sz="1800" spc="-1" strike="noStrike">
                <a:solidFill>
                  <a:srgbClr val="17347d"/>
                </a:solidFill>
                <a:latin typeface="Arial"/>
                <a:ea typeface="宋体"/>
              </a:rPr>
              <a:t>年</a:t>
            </a:r>
            <a:r>
              <a:rPr b="0" lang="en-US" sz="1800" spc="-1" strike="noStrike">
                <a:solidFill>
                  <a:srgbClr val="17347d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17347d"/>
                </a:solidFill>
                <a:latin typeface="Arial"/>
                <a:ea typeface="宋体"/>
              </a:rPr>
              <a:t>月</a:t>
            </a:r>
            <a:r>
              <a:rPr b="0" lang="en-US" sz="1800" spc="-1" strike="noStrike">
                <a:solidFill>
                  <a:srgbClr val="17347d"/>
                </a:solidFill>
                <a:latin typeface="Arial"/>
                <a:ea typeface="宋体"/>
              </a:rPr>
              <a:t>13</a:t>
            </a:r>
            <a:r>
              <a:rPr b="0" lang="zh-CN" sz="1800" spc="-1" strike="noStrike">
                <a:solidFill>
                  <a:srgbClr val="17347d"/>
                </a:solidFill>
                <a:latin typeface="Arial"/>
                <a:ea typeface="宋体"/>
              </a:rPr>
              <a:t>日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1" name="WordArt 5"/>
          <p:cNvSpPr txBox="1"/>
          <p:nvPr/>
        </p:nvSpPr>
        <p:spPr>
          <a:xfrm>
            <a:off x="2643120" y="316692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1c13f"/>
                    </a:gs>
                    <a:gs pos="100000">
                      <a:srgbClr val="9999ff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2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1c13f"/>
                  </a:gs>
                  <a:gs pos="100000">
                    <a:srgbClr val="9999ff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1440"/>
            <a:ext cx="2209680" cy="313236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163" name="Picture 7" descr="流通协会(无底色)"/>
          <p:cNvPicPr/>
          <p:nvPr/>
        </p:nvPicPr>
        <p:blipFill>
          <a:blip r:embed="rId3"/>
          <a:stretch/>
        </p:blipFill>
        <p:spPr>
          <a:xfrm>
            <a:off x="395280" y="203040"/>
            <a:ext cx="1224000" cy="12099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4859280" y="515772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47d"/>
                </a:solidFill>
                <a:latin typeface="Arial"/>
                <a:ea typeface="宋体"/>
              </a:rPr>
              <a:t>Tel:010-64413836           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47d"/>
                </a:solidFill>
                <a:latin typeface="Arial"/>
                <a:ea typeface="宋体"/>
              </a:rPr>
              <a:t>Fax:010-6441020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3"/>
          <p:cNvSpPr/>
          <p:nvPr/>
        </p:nvSpPr>
        <p:spPr>
          <a:xfrm>
            <a:off x="5796000" y="6421320"/>
            <a:ext cx="331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7347d"/>
                </a:solidFill>
                <a:latin typeface="Verdana"/>
                <a:ea typeface="宋体"/>
              </a:rPr>
              <a:t>中国汽车流通协会有形汽车市场分会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 rot="5400000">
            <a:off x="-2409120" y="1442160"/>
            <a:ext cx="4822560" cy="4763880"/>
          </a:xfrm>
          <a:prstGeom prst="pie">
            <a:avLst/>
          </a:pr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 flipH="1" rot="5400000">
            <a:off x="-2011320" y="1914480"/>
            <a:ext cx="4032000" cy="3921120"/>
          </a:xfrm>
          <a:prstGeom prst="pie">
            <a:avLst/>
          </a:prstGeom>
          <a:solidFill>
            <a:srgbClr val="77b7e7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2636640"/>
            <a:ext cx="6476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7347d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17347d"/>
                </a:solidFill>
                <a:latin typeface="黑体"/>
                <a:ea typeface="黑体"/>
              </a:rPr>
              <a:t>前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17347d"/>
                </a:solidFill>
                <a:latin typeface="黑体"/>
                <a:ea typeface="黑体"/>
              </a:rPr>
              <a:t>言</a:t>
            </a:r>
            <a:br>
              <a:rPr sz="2800"/>
            </a:br>
            <a:r>
              <a:rPr b="0" lang="zh-CN" sz="2800" spc="-1" strike="noStrike">
                <a:solidFill>
                  <a:srgbClr val="17347d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403280" y="765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关于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月份京城汽车市场综合分析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0560" y="2492280"/>
            <a:ext cx="676908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3366cc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3366cc"/>
                </a:solidFill>
                <a:latin typeface="Verdana"/>
                <a:ea typeface="宋体"/>
              </a:rPr>
              <a:t>月份京城车市由于大形势已经过去，汽车销售市场略好于</a:t>
            </a:r>
            <a:r>
              <a:rPr b="1" lang="en-US" sz="2400" spc="-1" strike="noStrike">
                <a:solidFill>
                  <a:srgbClr val="3366cc"/>
                </a:solidFill>
                <a:latin typeface="Verdana"/>
                <a:ea typeface="宋体"/>
              </a:rPr>
              <a:t>8</a:t>
            </a:r>
            <a:r>
              <a:rPr b="1" lang="en-US" sz="2400" spc="-1" strike="noStrike">
                <a:solidFill>
                  <a:srgbClr val="3366cc"/>
                </a:solidFill>
                <a:latin typeface="Verdana"/>
                <a:ea typeface="宋体"/>
              </a:rPr>
              <a:t>月份，三季度本应是汽车销售高峰期，由于各种因素的共同影响，并未出现高峰，金九已经成为过去，银十也未形成，尽管出台了一些新政策、新规定，但目前仍未刺激市场回升。汽车市场各个方面均未出现热点非常平淡，四季度汽车市场开局仍处于困难之中。</a:t>
            </a:r>
            <a:endParaRPr b="1" lang="en-US" sz="2400" spc="-1" strike="noStrike">
              <a:solidFill>
                <a:srgbClr val="77b7e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3"/>
          <p:cNvSpPr/>
          <p:nvPr/>
        </p:nvSpPr>
        <p:spPr>
          <a:xfrm>
            <a:off x="5796000" y="6421320"/>
            <a:ext cx="331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7347d"/>
                </a:solidFill>
                <a:latin typeface="Verdana"/>
                <a:ea typeface="宋体"/>
              </a:rPr>
              <a:t>中国汽车流通协会有形汽车市场分会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" name="AutoShape 2"/>
          <p:cNvSpPr/>
          <p:nvPr/>
        </p:nvSpPr>
        <p:spPr>
          <a:xfrm rot="5400000">
            <a:off x="-2411280" y="1456920"/>
            <a:ext cx="4822560" cy="4765680"/>
          </a:xfrm>
          <a:prstGeom prst="pie">
            <a:avLst/>
          </a:pr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 flipH="1" rot="5400000">
            <a:off x="-2011320" y="1914480"/>
            <a:ext cx="4032000" cy="3921120"/>
          </a:xfrm>
          <a:prstGeom prst="pie">
            <a:avLst/>
          </a:prstGeom>
          <a:solidFill>
            <a:srgbClr val="77b7e7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2636640"/>
            <a:ext cx="6476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7347d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17347d"/>
                </a:solidFill>
                <a:latin typeface="黑体"/>
                <a:ea typeface="黑体"/>
              </a:rPr>
              <a:t>目</a:t>
            </a:r>
            <a:br>
              <a:rPr sz="3200"/>
            </a:br>
            <a:r>
              <a:rPr b="0" lang="zh-CN" sz="3200" spc="-1" strike="noStrike">
                <a:solidFill>
                  <a:srgbClr val="17347d"/>
                </a:solidFill>
                <a:latin typeface="黑体"/>
                <a:ea typeface="黑体"/>
              </a:rPr>
              <a:t>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187280" y="7621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关于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月份京城汽车市场综合分析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76360" y="2709720"/>
            <a:ext cx="67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Verdana"/>
                <a:ea typeface="宋体"/>
              </a:rPr>
              <a:t>一、京城</a:t>
            </a:r>
            <a:r>
              <a:rPr b="1" lang="zh-CN" sz="2400" spc="-1" strike="noStrike">
                <a:solidFill>
                  <a:srgbClr val="3366cc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3366cc"/>
                </a:solidFill>
                <a:latin typeface="Verdana"/>
                <a:ea typeface="宋体"/>
              </a:rPr>
              <a:t>月份汽车销售市场基本情况分析</a:t>
            </a:r>
            <a:endParaRPr b="1" lang="en-US" sz="2400" spc="-1" strike="noStrike">
              <a:solidFill>
                <a:srgbClr val="77b7e7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b7e7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b7e7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Verdana"/>
                <a:ea typeface="宋体"/>
              </a:rPr>
              <a:t>二、关于京城汽车市场重要舆论和信息影响分析</a:t>
            </a:r>
            <a:endParaRPr b="1" lang="en-US" sz="2400" spc="-1" strike="noStrike">
              <a:solidFill>
                <a:srgbClr val="77b7e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5796000" y="6421320"/>
            <a:ext cx="331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7347d"/>
                </a:solidFill>
                <a:latin typeface="Verdana"/>
                <a:ea typeface="宋体"/>
              </a:rPr>
              <a:t>中国汽车流通协会有形汽车市场分会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8000" y="836640"/>
            <a:ext cx="705672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47d"/>
                </a:solidFill>
                <a:latin typeface="Verdana"/>
                <a:ea typeface="宋体"/>
              </a:rPr>
              <a:t>关于</a:t>
            </a:r>
            <a:r>
              <a:rPr b="1" lang="en-US" sz="2800" spc="-1" strike="noStrike">
                <a:solidFill>
                  <a:srgbClr val="17347d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17347d"/>
                </a:solidFill>
                <a:latin typeface="Verdana"/>
                <a:ea typeface="宋体"/>
              </a:rPr>
              <a:t>月份京城汽车市场综合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2195640" y="2494080"/>
            <a:ext cx="5039640" cy="1942200"/>
            <a:chOff x="2195640" y="2494080"/>
            <a:chExt cx="5039640" cy="1942200"/>
          </a:xfrm>
        </p:grpSpPr>
        <p:grpSp>
          <p:nvGrpSpPr>
            <p:cNvPr id="111" name="Group 4"/>
            <p:cNvGrpSpPr/>
            <p:nvPr/>
          </p:nvGrpSpPr>
          <p:grpSpPr>
            <a:xfrm>
              <a:off x="2195640" y="2667240"/>
              <a:ext cx="5039640" cy="1769040"/>
              <a:chOff x="2195640" y="2667240"/>
              <a:chExt cx="5039640" cy="1769040"/>
            </a:xfrm>
          </p:grpSpPr>
          <p:sp>
            <p:nvSpPr>
              <p:cNvPr id="112" name="Oval 5"/>
              <p:cNvSpPr/>
              <p:nvPr/>
            </p:nvSpPr>
            <p:spPr>
              <a:xfrm>
                <a:off x="2250720" y="2723760"/>
                <a:ext cx="4984560" cy="17125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3" name="Oval 6"/>
              <p:cNvSpPr/>
              <p:nvPr/>
            </p:nvSpPr>
            <p:spPr>
              <a:xfrm>
                <a:off x="2195640" y="2667240"/>
                <a:ext cx="4984920" cy="171252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4" name="Oval 7"/>
            <p:cNvSpPr/>
            <p:nvPr/>
          </p:nvSpPr>
          <p:spPr>
            <a:xfrm>
              <a:off x="2432520" y="2494080"/>
              <a:ext cx="4511880" cy="1626840"/>
            </a:xfrm>
            <a:prstGeom prst="ellipse">
              <a:avLst/>
            </a:prstGeom>
            <a:gradFill rotWithShape="0">
              <a:gsLst>
                <a:gs pos="0">
                  <a:srgbClr val="37556b"/>
                </a:gs>
                <a:gs pos="100000">
                  <a:srgbClr val="77b7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" name="Oval 8"/>
            <p:cNvSpPr/>
            <p:nvPr/>
          </p:nvSpPr>
          <p:spPr>
            <a:xfrm>
              <a:off x="2491200" y="2503440"/>
              <a:ext cx="4402800" cy="158688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0"/>
                  </a:srgbClr>
                </a:gs>
                <a:gs pos="100000">
                  <a:srgbClr val="d0e6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6" name="Oval 9"/>
            <p:cNvSpPr/>
            <p:nvPr/>
          </p:nvSpPr>
          <p:spPr>
            <a:xfrm>
              <a:off x="2536560" y="2518920"/>
              <a:ext cx="4189320" cy="1482840"/>
            </a:xfrm>
            <a:prstGeom prst="ellipse">
              <a:avLst/>
            </a:prstGeom>
            <a:gradFill rotWithShape="0">
              <a:gsLst>
                <a:gs pos="0">
                  <a:srgbClr val="5e91b7"/>
                </a:gs>
                <a:gs pos="100000">
                  <a:srgbClr val="77b7e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7" name="Oval 10"/>
            <p:cNvSpPr/>
            <p:nvPr/>
          </p:nvSpPr>
          <p:spPr>
            <a:xfrm>
              <a:off x="2758320" y="2551680"/>
              <a:ext cx="3687480" cy="120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b7e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8" name="Text Box 11"/>
          <p:cNvSpPr/>
          <p:nvPr/>
        </p:nvSpPr>
        <p:spPr>
          <a:xfrm>
            <a:off x="2916360" y="2852640"/>
            <a:ext cx="35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47d"/>
                </a:solidFill>
                <a:latin typeface="Arial"/>
                <a:ea typeface="宋体"/>
              </a:rPr>
              <a:t>一、京城</a:t>
            </a:r>
            <a:r>
              <a:rPr b="1" lang="en-US" sz="2400" spc="-1" strike="noStrike">
                <a:solidFill>
                  <a:srgbClr val="17347d"/>
                </a:solidFill>
                <a:latin typeface="Arial"/>
                <a:ea typeface="宋体"/>
              </a:rPr>
              <a:t>9</a:t>
            </a:r>
            <a:r>
              <a:rPr b="1" lang="zh-CN" sz="2400" spc="-1" strike="noStrike">
                <a:solidFill>
                  <a:srgbClr val="17347d"/>
                </a:solidFill>
                <a:latin typeface="Arial"/>
                <a:ea typeface="宋体"/>
              </a:rPr>
              <a:t>月份汽车销售    市场基本情况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3"/>
          <p:cNvSpPr/>
          <p:nvPr/>
        </p:nvSpPr>
        <p:spPr>
          <a:xfrm>
            <a:off x="5796000" y="6421320"/>
            <a:ext cx="331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7347d"/>
                </a:solidFill>
                <a:latin typeface="Verdana"/>
                <a:ea typeface="宋体"/>
              </a:rPr>
              <a:t>中国汽车流通协会有形汽车市场分会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0640" y="849240"/>
            <a:ext cx="789300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47d"/>
                </a:solidFill>
                <a:latin typeface="Verdana"/>
                <a:ea typeface="宋体"/>
              </a:rPr>
              <a:t>一、关于</a:t>
            </a:r>
            <a:r>
              <a:rPr b="1" lang="en-US" sz="2800" spc="-1" strike="noStrike">
                <a:solidFill>
                  <a:srgbClr val="17347d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17347d"/>
                </a:solidFill>
                <a:latin typeface="Verdana"/>
                <a:ea typeface="宋体"/>
              </a:rPr>
              <a:t>月份京城汽车销售市场基本情况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292284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（一）、京城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9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月份新车销售    辆，二手车交易     辆，进口车销售     辆，环比略有增长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（二）、尽管这一阶段出台了鼓励新能源汽车消费的政策，和鼓励购买小排量汽车的重要政策，但京城车市由于调控政策过严，市场反应比较平淡，两类汽车并未出现明显的回升，新能源汽车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9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月份中签率不足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40%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，难度在加大不是缓解。小排量汽车由于调控过严，消费者升级的观念比较强，对小排量减免所得税关注程度不高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（三）、由于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9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月初大形势结束较早，进京严格控制的力度大大缓解，因此外地进京购车的消费者明显回升，汽车市场和专卖店看车、购车的京外消费者明显增加，形成一定的人气，对京城四季度汽车销售市场有一定促进作用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3"/>
          <p:cNvSpPr/>
          <p:nvPr/>
        </p:nvSpPr>
        <p:spPr>
          <a:xfrm>
            <a:off x="5796000" y="6421320"/>
            <a:ext cx="331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7347d"/>
                </a:solidFill>
                <a:latin typeface="Verdana"/>
                <a:ea typeface="宋体"/>
              </a:rPr>
              <a:t>中国汽车流通协会有形汽车市场分会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0640" y="849240"/>
            <a:ext cx="789300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47d"/>
                </a:solidFill>
                <a:latin typeface="Verdana"/>
                <a:ea typeface="宋体"/>
              </a:rPr>
              <a:t>一、关于</a:t>
            </a:r>
            <a:r>
              <a:rPr b="1" lang="en-US" sz="2800" spc="-1" strike="noStrike">
                <a:solidFill>
                  <a:srgbClr val="17347d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17347d"/>
                </a:solidFill>
                <a:latin typeface="Verdana"/>
                <a:ea typeface="宋体"/>
              </a:rPr>
              <a:t>月份京城汽车销售市场基本情况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-36360" y="332208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（四）、目前的汽车销售市场形势，新能源汽车销售好于自主品牌汽车，自主品牌汽车好于合资汽车，合资汽车好于进口汽车，这一点与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2013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年以前的汽车市场正好相反，此种状况有可能在四季度延续下去，形成京城汽车销售市场重要的特点。进口车汽车市场面临的形势不是缓解而是不容乐观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（五）、京城汽车销售市场汽车价格持续下滑，受天津爆炸影响，京城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8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月份进口车价格曾经回升，甚至出现涨价，由于大市场环境的影响，特别是随着库存的增加，此种局面持续时间较短，即在次转入降价促销的状况，这种状况四季度还将延续下去。甚至影响到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2016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年京城汽车销售市场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（六）、由于政府发出了全力支持新能源汽车市场的重大信号，特别是新能源汽车不限购不限行的重要政策，目前京城消费者高度关注，很可能形成四季度京城汽车市场的热点，关于小排量汽车减征购置税的政策影响，由于京城特殊的市场环境，对京城汽车销售市场影响不大，对全国汽车销售市场将会有较大的作用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4"/>
          <p:cNvSpPr/>
          <p:nvPr/>
        </p:nvSpPr>
        <p:spPr>
          <a:xfrm>
            <a:off x="5796000" y="6421320"/>
            <a:ext cx="331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7347d"/>
                </a:solidFill>
                <a:latin typeface="Verdana"/>
                <a:ea typeface="宋体"/>
              </a:rPr>
              <a:t>中国汽车流通协会有形汽车市场分会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836640"/>
            <a:ext cx="705672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47d"/>
                </a:solidFill>
                <a:latin typeface="Verdana"/>
                <a:ea typeface="宋体"/>
              </a:rPr>
              <a:t>关于</a:t>
            </a:r>
            <a:r>
              <a:rPr b="1" lang="en-US" sz="2800" spc="-1" strike="noStrike">
                <a:solidFill>
                  <a:srgbClr val="17347d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17347d"/>
                </a:solidFill>
                <a:latin typeface="Verdana"/>
                <a:ea typeface="宋体"/>
              </a:rPr>
              <a:t>月份京城汽车市场综合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2195640" y="2494080"/>
            <a:ext cx="5039640" cy="1942200"/>
            <a:chOff x="2195640" y="2494080"/>
            <a:chExt cx="5039640" cy="1942200"/>
          </a:xfrm>
        </p:grpSpPr>
        <p:grpSp>
          <p:nvGrpSpPr>
            <p:cNvPr id="128" name="Group 4"/>
            <p:cNvGrpSpPr/>
            <p:nvPr/>
          </p:nvGrpSpPr>
          <p:grpSpPr>
            <a:xfrm>
              <a:off x="2195640" y="2667240"/>
              <a:ext cx="5039640" cy="1769040"/>
              <a:chOff x="2195640" y="2667240"/>
              <a:chExt cx="5039640" cy="1769040"/>
            </a:xfrm>
          </p:grpSpPr>
          <p:sp>
            <p:nvSpPr>
              <p:cNvPr id="129" name="Oval 5"/>
              <p:cNvSpPr/>
              <p:nvPr/>
            </p:nvSpPr>
            <p:spPr>
              <a:xfrm>
                <a:off x="2250720" y="2723760"/>
                <a:ext cx="4984560" cy="17125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30" name="Oval 6"/>
              <p:cNvSpPr/>
              <p:nvPr/>
            </p:nvSpPr>
            <p:spPr>
              <a:xfrm>
                <a:off x="2195640" y="2667240"/>
                <a:ext cx="4984920" cy="171252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31" name="Oval 7"/>
            <p:cNvSpPr/>
            <p:nvPr/>
          </p:nvSpPr>
          <p:spPr>
            <a:xfrm>
              <a:off x="2432520" y="2494080"/>
              <a:ext cx="4511880" cy="1626840"/>
            </a:xfrm>
            <a:prstGeom prst="ellipse">
              <a:avLst/>
            </a:prstGeom>
            <a:gradFill rotWithShape="0">
              <a:gsLst>
                <a:gs pos="0">
                  <a:srgbClr val="37556b"/>
                </a:gs>
                <a:gs pos="100000">
                  <a:srgbClr val="77b7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" name="Oval 8"/>
            <p:cNvSpPr/>
            <p:nvPr/>
          </p:nvSpPr>
          <p:spPr>
            <a:xfrm>
              <a:off x="2491200" y="2503440"/>
              <a:ext cx="4402800" cy="158688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0"/>
                  </a:srgbClr>
                </a:gs>
                <a:gs pos="100000">
                  <a:srgbClr val="d0e6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" name="Oval 9"/>
            <p:cNvSpPr/>
            <p:nvPr/>
          </p:nvSpPr>
          <p:spPr>
            <a:xfrm>
              <a:off x="2536560" y="2518920"/>
              <a:ext cx="4189320" cy="1482840"/>
            </a:xfrm>
            <a:prstGeom prst="ellipse">
              <a:avLst/>
            </a:prstGeom>
            <a:gradFill rotWithShape="0">
              <a:gsLst>
                <a:gs pos="0">
                  <a:srgbClr val="5e91b7"/>
                </a:gs>
                <a:gs pos="100000">
                  <a:srgbClr val="77b7e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" name="Oval 10"/>
            <p:cNvSpPr/>
            <p:nvPr/>
          </p:nvSpPr>
          <p:spPr>
            <a:xfrm>
              <a:off x="2758320" y="2551680"/>
              <a:ext cx="3687480" cy="120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b7e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5" name="Text Box 11"/>
          <p:cNvSpPr/>
          <p:nvPr/>
        </p:nvSpPr>
        <p:spPr>
          <a:xfrm>
            <a:off x="2771640" y="27147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47d"/>
                </a:solidFill>
                <a:latin typeface="Arial"/>
                <a:ea typeface="宋体"/>
              </a:rPr>
              <a:t>二、关于京城汽车市场重要舆论和信息影响分析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3"/>
          <p:cNvSpPr/>
          <p:nvPr/>
        </p:nvSpPr>
        <p:spPr>
          <a:xfrm>
            <a:off x="5796000" y="6421320"/>
            <a:ext cx="331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7347d"/>
                </a:solidFill>
                <a:latin typeface="Verdana"/>
                <a:ea typeface="宋体"/>
              </a:rPr>
              <a:t>中国汽车流通协会有形汽车市场分会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849240"/>
            <a:ext cx="817236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47d"/>
                </a:solidFill>
                <a:latin typeface="Verdana"/>
                <a:ea typeface="宋体"/>
              </a:rPr>
              <a:t>二、关于京城汽车市场重要舆论和信息影响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2819160"/>
            <a:ext cx="914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（一）、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9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月份市政府有关部门公布了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2016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年京城汽车市场主要指标，今年示范应用新能源小客车指标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万个。其中，个人指标为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万个，按照整数平均分配原则，前五期每期为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3333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个，其余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3335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个指标在第六期分配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;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同时还将此前的弃号和未配置的指标逐期滚入，这个数字会在双月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25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日公布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单位指标为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万个，按照整数平均分配原则，前五期每期为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666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个，其余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670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个指标在第六期分配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明年购车指标额度依然是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万个，但普通车指标将缩减为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9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万个、新能源车指标扩充为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6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万个，预计还将按照整数平均分配原则，可能双月摇号一次，每次摇号普通车指标或将配置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.5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万个，新能源车指标每期配置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万个，但具体配置方案仍有待权威部门公布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注：普通车与新能源车的分配率为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60%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对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40%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，新能源汽车市场的优势明显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3"/>
          <p:cNvSpPr/>
          <p:nvPr/>
        </p:nvSpPr>
        <p:spPr>
          <a:xfrm>
            <a:off x="5796000" y="6421320"/>
            <a:ext cx="331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7347d"/>
                </a:solidFill>
                <a:latin typeface="Verdana"/>
                <a:ea typeface="宋体"/>
              </a:rPr>
              <a:t>中国汽车流通协会有形汽车市场分会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849240"/>
            <a:ext cx="817236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47d"/>
                </a:solidFill>
                <a:latin typeface="Verdana"/>
                <a:ea typeface="宋体"/>
              </a:rPr>
              <a:t>二、关于京城汽车市场重要舆论和信息影响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248652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（二）联合电动汽车超市年底再开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家，将布局天津河北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今年，联合电动初创之时，定下的目标是到年底建立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家电动汽车超市。而随着亦庄店的开业，还没过“百天”的联合电动将拥有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家门店。“现在的目标是到年底再开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家店，明年春节前在北京要有</a:t>
            </a:r>
            <a:r>
              <a:rPr b="1" lang="en-US" sz="2200" spc="-1" strike="noStrike">
                <a:solidFill>
                  <a:srgbClr val="3366cc"/>
                </a:solidFill>
                <a:latin typeface="Arial"/>
                <a:ea typeface="宋体"/>
              </a:rPr>
              <a:t>20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家店，这还不包括在天津和河北廊坊的店面。”联合电动董事长披露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但尽管如此，“速度”依然是联合电动最大的挑战。表示，联合电动并非单纯“卖车”，而是要做一个平台，包括电动汽车销售、媒体平台、分时租赁和充电桩建设，而这四大板块都需要速度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        </a:t>
            </a:r>
            <a:r>
              <a:rPr b="1" lang="zh-CN" sz="2200" spc="-1" strike="noStrike">
                <a:solidFill>
                  <a:srgbClr val="3366cc"/>
                </a:solidFill>
                <a:latin typeface="Arial"/>
                <a:ea typeface="宋体"/>
              </a:rPr>
              <a:t>综合分析：在一系列重大支持新能源汽车的政策出台大形势下，新能源汽车市场正在出现新的销售模式，不仅快速发展而且对京城汽车专卖店的竞争将更为激烈。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inkpad</cp:lastModifiedBy>
  <dcterms:modified xsi:type="dcterms:W3CDTF">2015-10-13T03:24:52Z</dcterms:modified>
  <cp:revision>32</cp:revision>
  <dc:subject/>
  <dc:title>2014年2月份京城汽车市场综合分析 </dc:title>
</cp:coreProperties>
</file>